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4B3E-A06A-4B1F-A2A6-6203937C3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6998-ECA6-4664-97F8-F02600727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30A09C-3741-4484-8B5E-6B4ED19F9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FD59F1-964E-468B-A73C-5569BAA4D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90103F-CE22-4FDA-85B3-2026151BB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331654-B245-4F3F-96A7-5B8E6CEB2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74A4AF-E103-4E73-B709-F2B395A0C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09CB3A-3DEC-4478-A69B-821D852AA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C8E44F-FEE5-4118-A9AC-295B19808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5BE663-8C93-408D-9131-65DA0ED88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C91E69-2D1F-496B-A7B6-BD7231B22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DCED8D-4E21-46FF-B274-61E1FF8E9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4C35-1943-4B8A-B4A2-D09D0FDEA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641FCE-5969-4611-88D0-9C88AD00F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837C9D-036F-4FBB-AF24-4055A54C7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43ACA3-5BCF-479D-AA3F-E9309228D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58A5C9-47AA-4A99-AB30-57BFE1215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1ED9F5-5550-457C-B2F6-102AEDF88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1EC7C0-07EC-4BD4-8FF7-EF5B7B8C3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1E5102-F578-4BAB-909C-FFF027198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4F7102-895B-4DEB-9056-4CCE78CC2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6A3EA0-DE13-4E0F-9912-B228DA004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8DB8DF-D513-4024-BFE2-958FE55CD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AF4F-BA95-49A1-AA47-7D96C6D52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7A7FD2-AF8F-4727-A99C-8FDDCE97F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8C829-867E-47C0-83C3-6CAD7B162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AD813-20B4-45B2-9B87-06B095728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43A35-8A8A-48E7-998A-F9ECCFAB8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3DD23-AB6C-487B-87C0-7AABF4E38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44353-71A9-48DB-9340-34D76B59B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B82A2-E849-4D24-8C49-C89417406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2FF44-9760-4707-862C-8AC113108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DFB0-26A5-45DD-ADD4-E76FBA8F6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19B79-DDF3-44D5-BE50-E04E616A3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64834-76A5-47DD-B542-CFACE7547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86535-2CB4-4EA8-8868-55A1AA782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502ED-A647-435C-A9E8-E8589A33C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EEBC0-1284-42A2-BDB9-951F29F36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30157E-909D-4D9E-9B20-08EEF7EB1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6D1F6D-5FE5-4D2F-B163-10845E988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8A96C4-0C1E-4F19-AD87-C45D74392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D1B00F-8679-44F4-A4E4-7070B31F8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8BF84A-4F37-48E7-A78B-E42370323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1E30-2A76-432E-AC9E-1C8967684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305694-CAA6-49BD-8F08-E207A5F2B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FFF5B5-63EA-430E-BBD1-5DA1E07D8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891F01-C74F-4723-9796-011093C81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EDBA3C-D6A6-4C3A-B654-AF35537D7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7157E6-9E1E-4B32-A195-9E61843A3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C79315-8EC8-41AB-98B5-5345C1E77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A3D555-DD23-431F-A885-76E9C4D2D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0B1705-FCE1-4116-8EBD-9E623A832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7618FD-8440-4A49-8B62-B48F91EF3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2578DF-8305-49B9-9A6C-A18C8B224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2028-95CD-4B60-B74D-BC7B70D87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0EF82F-3A79-410F-B293-3C0BD2F86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DBF5E6-0A8A-4A54-ACDD-9630B558D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9B51AE-5646-4B41-A365-831E6417F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CB0C66-C177-4751-8961-C76C899A9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59C905-ABE0-4EE3-9859-36D23C8A7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1F2320-C3EC-4BD8-AB30-2373C5515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F6D509-6181-4F1D-8F34-F67224134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7A3238-549C-4217-9823-F06ADA84F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F8B966-7DF0-44A6-9545-EF461B255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5F975E-78AF-4E06-A9AC-0DA3D5BC1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74D3-E1B2-4794-B70E-8B251B94C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8DC092-A709-41D8-9373-9D9B89E85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B5F62F-C55E-46D4-8B93-1DC15603A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9C080B-DFBE-4122-BCAB-9B94D210B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5FD1C3-F4BB-42DF-9F47-8D830B299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0AE110-0780-4CA7-BFDF-196D51732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42D126-C702-4B5E-A713-CCC278AF3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9022B5-19E7-46B6-9CC0-A22EA5306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D6EA18-7EDF-4680-B9E9-03DAFD967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999C31-4BE4-45ED-9B51-9775427A8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D0A537-55F7-44F5-B54C-3C43BBA2C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AFB3-00D4-4BED-807E-E15B76B4F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6B1C8D-D7A2-4D49-93D8-F5EB5A9E6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8C9EF16-249F-4CED-928D-A50E2958A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8BAFD7-D6CE-486B-94B9-78AC9D382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ED0E8CB-B7F8-466E-B283-070F7DF9B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35571A4-5D6F-4319-8B80-3D2C014D4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9B6F92B-E4C4-47D6-A397-3C5DABCA3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FC55D9C-93A0-4B45-9D31-0AD8736C4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0576114-3560-44B2-AAC9-ED7CB504F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79BACD8-E572-422B-AF09-C597BC57B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F7E135A-A9CE-4CDB-B6E5-506E7E806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C14A-2DBC-4A7A-BAAD-A0E5E60F2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FFE30EA-A308-46CB-8883-794B80F5F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0977389-A688-41FA-8E77-7F83752AD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8B61415-BFDA-4A10-B970-25D58F8B3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9AEB0A-5C7F-42FF-A33C-37BADF66F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58FCC1-9CF7-4051-92E1-0F8E28DD3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2B6EF1-C77E-4EA8-B7F0-8F3006E2D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EF3FF4-5B01-4BF1-ADA9-9EA3020C1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BE9578-7BD6-473D-90EF-5E84CD389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AF6859-68C6-4A67-8E3E-803C88BBE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1D3264-C1C5-44D4-B320-C40E644FD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9F16-BB38-4F4C-85B2-63B409799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142B0E-B851-4DE3-B653-5AE154D47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227301-90A8-4D42-8B1F-CB555A807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37F980-D015-4D5A-AE59-BD56E507F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C985C1-DE6D-44F3-8DCD-AD41E012D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30A9B6-7CE1-4CB6-A719-7582BE14F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9BA119-0065-4423-BEB7-853455F36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1838D8-5FF2-4B25-BA0C-2D07264F5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932FD5-4B93-4C34-AE55-3AB352C77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A72BF2-478D-4171-A8DA-C123D7BFC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543702-537E-4440-9368-A2F67DD0B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A24F-1E4B-4892-A974-8F6CF090A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C0FE68-618C-41E8-8EA8-650D55C3B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094AD2-343B-483B-884E-4F763C290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4B991B-DE17-4E8C-9C72-1D8F0493F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EA0041-5915-4692-B266-04D7E62B8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8622DE-ACBD-4128-88DD-E7BC8846D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F34C93-EFE2-4AE7-9B91-1C6272733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580E26-6D83-46D8-9FA1-4C2C394A8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EDC7DB-5580-4F3B-8D21-61A0B4D38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B7BAFC-2EB0-4D4D-8CA2-E683AA9C8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32E226-4D9F-4FA9-A38F-DE054532D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0B174-9CDF-4F4E-99C6-DDC3AF0AD37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86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87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7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88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89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89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90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708D5-95A8-40A1-B22F-32FB77000061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7D635-E556-46E8-AC06-BB239D8839D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212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13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grpSp>
          <p:nvGrpSpPr>
            <p:cNvPr id="215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216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grpSp>
          <p:nvGrpSpPr>
            <p:cNvPr id="218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219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grpSp>
          <p:nvGrpSpPr>
            <p:cNvPr id="221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222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5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226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227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9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230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2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5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36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8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39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1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242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4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245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248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0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251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3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254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6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257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9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260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2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263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5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8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269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1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272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4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275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7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278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0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281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3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6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287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9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grpSp>
              <p:nvGrpSpPr>
                <p:cNvPr id="291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292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4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295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6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7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298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0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301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2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3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304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6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307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9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310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2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313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4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5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316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8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319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0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1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322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3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24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0B630-A72B-4FFB-8675-13F167F6742D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7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388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389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grpSp>
          <p:nvGrpSpPr>
            <p:cNvPr id="391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392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393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394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6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397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398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9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0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401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2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3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404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5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6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407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8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9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410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1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2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413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4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5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416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7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8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419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0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1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422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3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4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425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6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7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428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9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0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431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2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3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434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5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6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437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8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9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440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1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2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443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4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5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446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7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8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449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0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1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452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3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4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455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6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7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458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9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60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1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62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463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4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5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466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7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8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469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0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71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472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3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74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475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6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77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478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9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80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481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2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83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484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5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86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487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8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89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490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1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92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493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4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495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496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497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8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9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0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1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2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3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04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05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506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CAA46-2ABC-496F-8A48-C5CE91F55118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62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564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565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66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567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568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573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5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A47DF-8644-4989-9646-027040862C3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2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3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625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626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27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628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29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634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635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636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85C33-5D1C-43EC-9960-E1484667A54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 type="ftr" idx="1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2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683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685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686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19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20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21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1208B-F04D-434F-9C49-E01F1CA8BBE4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6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737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738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740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743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74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dt" idx="22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 type="ftr" idx="23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 type="sldNum" idx="24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8E83E-1527-40D8-8495-D922E32650C0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79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79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79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80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81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82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82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dt" idx="2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D5017-9B66-4522-8CE2-2D4EBB27B193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My Personal Learning Profil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subTitle"/>
          </p:nvPr>
        </p:nvSpPr>
        <p:spPr>
          <a:xfrm>
            <a:off x="1143000" y="2743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By Jocelyn Davi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y learning Styl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y learning style is visual learn that means that I by reading ,watching ,viewing informati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My Learning Techniqu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y learning technique is concrete sequenti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t means I am strongly left-brain dominate and that I like to have things in ord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The Hemispheres of my brain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837720" y="14475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 found out that the left hemisphere of my brain I am a sequential thinker and methodic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y Intelligence Typ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y intelligence type is creative intelligenc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at means that I like to create all forms of art, able to express ideas without word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 bra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t’s important to learn how your brain works because then you know the sides that you are and that you need to exercise it to learn mor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verybody has their own way of thinking outside the box or insid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ow I Can Use My Bra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 can use what I have learned about the way my brain works in school. I can do this when I do art projects and to do my work properly. To show off my smartness when answering a question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9T13:50:43Z</dcterms:created>
  <dc:creator>student</dc:creator>
  <dc:description/>
  <dc:language>en-US</dc:language>
  <cp:lastModifiedBy>student</cp:lastModifiedBy>
  <dcterms:modified xsi:type="dcterms:W3CDTF">2010-11-23T16:03:48Z</dcterms:modified>
  <cp:revision>6</cp:revision>
  <dc:subject/>
  <dc:title>My Personal Learning Profile</dc:title>
</cp:coreProperties>
</file>